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82528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7d53"/>
                </a:solidFill>
                <a:latin typeface="微软雅黑"/>
              </a:rPr>
              <a:t>2020</a:t>
            </a:r>
            <a:r>
              <a:rPr b="0" lang="zh-CN" sz="3200" spc="-1" strike="noStrike">
                <a:solidFill>
                  <a:srgbClr val="157d53"/>
                </a:solidFill>
                <a:latin typeface="微软雅黑"/>
              </a:rPr>
              <a:t>年归档业务培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4057200"/>
            <a:ext cx="64008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f6146"/>
                </a:solidFill>
                <a:latin typeface="Calibri"/>
                <a:ea typeface="微软雅黑"/>
              </a:rPr>
              <a:t>天津科技大学综合档案室     </a:t>
            </a:r>
            <a:r>
              <a:rPr b="1" lang="en-US" sz="2000" spc="-1" strike="noStrike">
                <a:solidFill>
                  <a:srgbClr val="0f6146"/>
                </a:solidFill>
                <a:latin typeface="Calibri"/>
                <a:ea typeface="微软雅黑"/>
              </a:rPr>
              <a:t>2020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6871680" y="5905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已升级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二部分  档案管理系统著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448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二三级目录、实体分类号，可提前联系档案室做好。只需输入以下信息：件号、保管期限、正题名、第一责任者、文件时间、页数、输入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最后一定要记得保存。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每份文件著录完，接着继续著录第二条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事项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著录前先将手头文件排列好，可以按照重要程度或者文件时间、文件之间的联系等等排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实际的纸质文件和系统著录的文件顺序是一致的，也是一一对应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二部分  档案管理系统著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卷为单位的著录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教学综合类、基建类、财会类、照片类、仪器设备类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以件为单位的著录，第一步是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添加案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把案卷题名等写好保存，第二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添加文件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三部分  工作中出现的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档案褪色现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采用原装硒鼓打印，领导签字的一定是中性碳素笔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文件带着订书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除已经胶装好的类似书本的，其余散装文件，一律不允许用订书钉，请用彩色塑料曲别针别好即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文件排版和打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于工作总结计划等文件，尽量不要最后一页只留一个署名和日期，排版请紧凑些。每份文件请尽量正反面打印，节约纸张，也节省档案室存储空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55280" y="703080"/>
            <a:ext cx="838836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业务培训的主要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部分 文件收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部分 档案系统著录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部分 工作中出现的问题及要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一部分  文件的收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25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一）主体、原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收集整理主体—“谁形成、谁整理、谁归档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应归档文件材料一般由机关各承办部门进行整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专门文件材料应由业务部门或承办人或者提前议定的机构负责整理。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比如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2019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年学校党代会专题档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规模小的基层单位可集中整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归档文件注重平时积累、整理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办理完毕     （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严格检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严格登记     （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妥善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及时收集     （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规范整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一部分  文件的收集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收集的原则——“以我为主”为前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全面、准确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完整、精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满足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总的来说，档案室收集的是文件材料，要有始有终。比如，某单位有一个评选先进个人的通知，那么相应的应该有最终评选的结果或者最终表彰的决定，这个事件才算完整。所存材料应该是最终版本的，最终采用的稿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一部分  文件的收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二）收集的种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从载体上，包括纸质和非纸质，非纸质包括照片、音像、实物及电子文件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从门类上，高校档案分为党政类、教学类、科研类、基建类、出版类、设备仪器类等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大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此次文件收集，针对的是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2019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年形成的文件材料。除可随时归档的科研项目材料和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2019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届的教学成绩单、毕业设计（论文）、毕业生登记表这三大类，其余材料均在此次收集范围之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一部分  文件的收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三）收集文件材料的要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文件材料应为原件。因故无原件的可归具有凭证作用的材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归档的文件材料一律采用标准用纸，完成公文处理的每个程序、生效的文件，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字迹材料符合标准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归档的文件材料要齐全完整，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同一份文件、一个问题的内容要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各处室的归档正式文件必须是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标准的定稿和加盖有公章的正本及文件处理单，禁用复制件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归档时要办理移交手续，由移交处室负责填写“档案移交清册”一式二份。交接双方在移交登记上签字以备存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二部分  档案管理系统著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2654280"/>
            <a:ext cx="70786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3" descr="QQ截图20180502165050"/>
          <p:cNvPicPr/>
          <p:nvPr/>
        </p:nvPicPr>
        <p:blipFill>
          <a:blip r:embed="rId1"/>
          <a:stretch/>
        </p:blipFill>
        <p:spPr>
          <a:xfrm>
            <a:off x="1492200" y="2266920"/>
            <a:ext cx="56260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二部分  档案管理系统著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校使用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南大之星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档案管理系统。进入的方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校园网新版主页右下方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校内导航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档案馆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档案管理系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直接输入复制网址：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http://kddag.tust.edu.cn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注：档案室网页和档案管理系统，只能从局域网进入，出了校园无法登陆查看。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最终账户输入页面如下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账户和密码如有疑问，请咨询前任兼职档案员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或者找档案室焦老师重置自己部门账户。账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账户里已经存在的信息请勿轻易改动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3" descr=""/>
          <p:cNvPicPr/>
          <p:nvPr/>
        </p:nvPicPr>
        <p:blipFill>
          <a:blip r:embed="rId1"/>
          <a:stretch/>
        </p:blipFill>
        <p:spPr>
          <a:xfrm>
            <a:off x="5824440" y="4317840"/>
            <a:ext cx="257184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175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二部分  档案管理系统著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著录方法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件为单位的著录方法。（党政类、外事类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添加文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按钮后，出现如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3" descr=""/>
          <p:cNvPicPr/>
          <p:nvPr/>
        </p:nvPicPr>
        <p:blipFill>
          <a:blip r:embed="rId1"/>
          <a:stretch/>
        </p:blipFill>
        <p:spPr>
          <a:xfrm>
            <a:off x="1090440" y="2595600"/>
            <a:ext cx="4865760" cy="12477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4" descr=""/>
          <p:cNvPicPr/>
          <p:nvPr/>
        </p:nvPicPr>
        <p:blipFill>
          <a:blip r:embed="rId2"/>
          <a:stretch/>
        </p:blipFill>
        <p:spPr>
          <a:xfrm>
            <a:off x="5197320" y="4381560"/>
            <a:ext cx="32418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1:04:00Z</dcterms:created>
  <dc:creator>User</dc:creator>
  <dc:description/>
  <dc:language>en-US</dc:language>
  <cp:lastModifiedBy>dell</cp:lastModifiedBy>
  <dcterms:modified xsi:type="dcterms:W3CDTF">2020-05-13T05:09:21Z</dcterms:modified>
  <cp:revision>234</cp:revision>
  <dc:subject/>
  <dc:title>实体立卷过程注意事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662</vt:lpwstr>
  </property>
  <property fmtid="{D5CDD505-2E9C-101B-9397-08002B2CF9AE}" pid="3" name="KSORubyTemplateID">
    <vt:lpwstr>2</vt:lpwstr>
  </property>
</Properties>
</file>